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9.png" ContentType="image/png"/>
  <Override PartName="/ppt/media/image39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0.wmf" ContentType="image/x-wmf"/>
  <Override PartName="/ppt/media/image1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6A0-7913-4F08-9488-A9B6E174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78F-7623-4F8C-A50B-9AAFF99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798-A647-4C9F-857A-CD722C6E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1C9-2F01-4AB9-B911-C545DCB2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C43-48CB-4E3B-85FF-B22C05A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CE9-51B2-4CBD-A2DD-1E123539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BBE-E7C6-49CF-AA45-1764C95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655-A657-4ABA-90CE-BBA18A7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735-DC63-462A-B8F6-8D2559D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A3F-1793-45AA-A760-2F5E1DA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0D8-3ABA-4FE3-9AF6-6688882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162-9A78-4056-871F-929F797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A68-0664-4FBB-8D1A-04A7B7C842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6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43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99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44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96720" y="1376280"/>
            <a:ext cx="4462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376280"/>
            <a:ext cx="367200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Cuadro de texto 10"/>
          <p:cNvSpPr/>
          <p:nvPr/>
        </p:nvSpPr>
        <p:spPr>
          <a:xfrm>
            <a:off x="1849320" y="1368360"/>
            <a:ext cx="1440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11"/>
          <p:cNvSpPr/>
          <p:nvPr/>
        </p:nvSpPr>
        <p:spPr>
          <a:xfrm>
            <a:off x="2984400" y="251136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12"/>
          <p:cNvSpPr/>
          <p:nvPr/>
        </p:nvSpPr>
        <p:spPr>
          <a:xfrm>
            <a:off x="782640" y="2224080"/>
            <a:ext cx="107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3"/>
          <p:cNvSpPr/>
          <p:nvPr/>
        </p:nvSpPr>
        <p:spPr>
          <a:xfrm>
            <a:off x="6356520" y="2557440"/>
            <a:ext cx="1223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14"/>
          <p:cNvSpPr/>
          <p:nvPr/>
        </p:nvSpPr>
        <p:spPr>
          <a:xfrm>
            <a:off x="6967440" y="2970360"/>
            <a:ext cx="144000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15"/>
          <p:cNvSpPr/>
          <p:nvPr/>
        </p:nvSpPr>
        <p:spPr>
          <a:xfrm>
            <a:off x="1511280" y="3860640"/>
            <a:ext cx="2160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17"/>
          <p:cNvSpPr/>
          <p:nvPr/>
        </p:nvSpPr>
        <p:spPr>
          <a:xfrm>
            <a:off x="2989440" y="4981680"/>
            <a:ext cx="1726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18"/>
          <p:cNvSpPr/>
          <p:nvPr/>
        </p:nvSpPr>
        <p:spPr>
          <a:xfrm>
            <a:off x="5940360" y="525636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Rectángulo"/>
          <p:cNvSpPr/>
          <p:nvPr/>
        </p:nvSpPr>
        <p:spPr>
          <a:xfrm>
            <a:off x="14400" y="561168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la responsable de producir 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171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ol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u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4080" y="115920"/>
            <a:ext cx="87390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52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65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  <p:sp>
        <p:nvSpPr>
          <p:cNvPr id="68" name="1 Elipse"/>
          <p:cNvSpPr/>
          <p:nvPr/>
        </p:nvSpPr>
        <p:spPr>
          <a:xfrm>
            <a:off x="1332000" y="3789360"/>
            <a:ext cx="1800000" cy="122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71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435640" y="1655640"/>
            <a:ext cx="2751120" cy="5158080"/>
          </a:xfrm>
          <a:prstGeom prst="rect">
            <a:avLst/>
          </a:prstGeom>
          <a:ln w="0">
            <a:noFill/>
          </a:ln>
        </p:spPr>
      </p:pic>
      <p:pic>
        <p:nvPicPr>
          <p:cNvPr id="72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73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89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93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3-05-12T14:49:25Z</dcterms:modified>
  <cp:revision>284</cp:revision>
  <dc:subject/>
  <dc:title>Diapositiva 1</dc:title>
</cp:coreProperties>
</file>